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A2AD94-3EF3-4484-8F65-CBD7C39AA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676160" y="1980720"/>
            <a:ext cx="70102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676160" y="4766760"/>
            <a:ext cx="70102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30BDBB-6C02-4E20-9BB5-ED64FF251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676160" y="1980720"/>
            <a:ext cx="3420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68240" y="1980720"/>
            <a:ext cx="3420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676160" y="4766760"/>
            <a:ext cx="3420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268240" y="4766760"/>
            <a:ext cx="3420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E29154-E587-44D6-97F3-8ABD0C59B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76160" y="1980720"/>
            <a:ext cx="225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046760" y="1980720"/>
            <a:ext cx="225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17000" y="1980720"/>
            <a:ext cx="225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676160" y="4766760"/>
            <a:ext cx="225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4046760" y="4766760"/>
            <a:ext cx="225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17000" y="4766760"/>
            <a:ext cx="225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F45BC5-FDD1-4A2F-A022-0A71CC0B5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8F8C9-2749-4B4E-8DB5-0AF86A35B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676160" y="1980720"/>
            <a:ext cx="701028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07FF8-1BE2-4418-9DC4-A689D73E0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676160" y="1980720"/>
            <a:ext cx="70102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DA587-FDE4-4DBC-B052-64D839B2A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676160" y="1980720"/>
            <a:ext cx="3420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68240" y="1980720"/>
            <a:ext cx="3420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9FEF6-5DAF-47C0-9C85-831107F17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F25DA-D534-4F07-8139-E48572497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5CAEF-CC20-43FB-B6CE-8DD83383F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676160" y="1980720"/>
            <a:ext cx="3420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268240" y="1980720"/>
            <a:ext cx="3420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676160" y="4766760"/>
            <a:ext cx="3420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468E6-9406-4493-96E2-D4CBB29D2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676160" y="1980720"/>
            <a:ext cx="701028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D6E6C1-0C82-47CB-84F5-1FF31B740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676160" y="1980720"/>
            <a:ext cx="3420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68240" y="1980720"/>
            <a:ext cx="3420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268240" y="4766760"/>
            <a:ext cx="3420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B7AAD-3650-4DF0-B768-089550E89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676160" y="1980720"/>
            <a:ext cx="3420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268240" y="1980720"/>
            <a:ext cx="3420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676160" y="4766760"/>
            <a:ext cx="70102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5513F-57DC-4970-AE09-A37E06F3E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676160" y="1980720"/>
            <a:ext cx="70102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676160" y="4766760"/>
            <a:ext cx="70102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A69AE-F250-4ECE-A08A-AC5512A21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676160" y="1980720"/>
            <a:ext cx="3420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268240" y="1980720"/>
            <a:ext cx="3420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676160" y="4766760"/>
            <a:ext cx="3420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5268240" y="4766760"/>
            <a:ext cx="3420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DCB21-AEB9-4899-85CC-11248DFED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676160" y="1980720"/>
            <a:ext cx="225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046760" y="1980720"/>
            <a:ext cx="225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417000" y="1980720"/>
            <a:ext cx="225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676160" y="4766760"/>
            <a:ext cx="225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046760" y="4766760"/>
            <a:ext cx="225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417000" y="4766760"/>
            <a:ext cx="22572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80B5D-5E9F-4FA8-B327-DA45B4A8D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676160" y="1980720"/>
            <a:ext cx="70102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719221-DC25-44CB-8478-8E6219277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676160" y="1980720"/>
            <a:ext cx="3420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68240" y="1980720"/>
            <a:ext cx="3420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121393-111E-49F0-9C29-E0F26987A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AEEB9D-6A57-4486-8CF7-2CFE086F9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464B50-7A45-4068-BD11-BCC2BF77C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76160" y="1980720"/>
            <a:ext cx="3420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68240" y="1980720"/>
            <a:ext cx="3420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676160" y="4766760"/>
            <a:ext cx="3420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282962-AF4E-4866-963B-9BCFB3991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76160" y="1980720"/>
            <a:ext cx="3420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68240" y="1980720"/>
            <a:ext cx="3420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68240" y="4766760"/>
            <a:ext cx="3420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0BAE22-FB9F-47B5-A8AD-31BD8D585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76160" y="1980720"/>
            <a:ext cx="3420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268240" y="1980720"/>
            <a:ext cx="34207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676160" y="4766760"/>
            <a:ext cx="70102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78618D-5E40-4AEB-A9FB-9ADD682B1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76160" y="1980720"/>
            <a:ext cx="70102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71E2A-687F-4916-8509-80EAC73D6B5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7" name="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2B7EE-3A24-4F91-A668-E0E1B7EFBBD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63" name="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Chapter 29</a:t>
            </a:r>
            <a:br>
              <a:rPr sz="4500"/>
            </a:b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AFFLUENCE AND ANXIETY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2819160" y="3886200"/>
            <a:ext cx="5257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America Past and Presen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Eighth Edition</a:t>
            </a: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Divine  </a:t>
            </a:r>
            <a:r>
              <a:rPr b="1" lang="en-US" sz="1800" spc="-1" strike="noStrike">
                <a:solidFill>
                  <a:srgbClr val="ffffff"/>
                </a:solidFill>
                <a:latin typeface="Wingdings 2"/>
                <a:ea typeface="Wingdings 2"/>
              </a:rPr>
              <a:t>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Breen  </a:t>
            </a:r>
            <a:r>
              <a:rPr b="1" lang="en-US" sz="1800" spc="-1" strike="noStrike">
                <a:solidFill>
                  <a:srgbClr val="ffffff"/>
                </a:solidFill>
                <a:latin typeface="Wingdings 2"/>
                <a:ea typeface="Wingdings 2"/>
              </a:rPr>
              <a:t>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Fredrickson  </a:t>
            </a:r>
            <a:r>
              <a:rPr b="1" lang="en-US" sz="1800" spc="-1" strike="noStrike">
                <a:solidFill>
                  <a:srgbClr val="ffffff"/>
                </a:solidFill>
                <a:latin typeface="Wingdings 2"/>
                <a:ea typeface="Wingdings 2"/>
              </a:rPr>
              <a:t>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Williams  </a:t>
            </a:r>
            <a:r>
              <a:rPr b="1" lang="en-US" sz="1800" spc="-1" strike="noStrike">
                <a:solidFill>
                  <a:srgbClr val="ffffff"/>
                </a:solidFill>
                <a:latin typeface="Wingdings 2"/>
                <a:ea typeface="Wingdings 2"/>
              </a:rPr>
              <a:t>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Gross  </a:t>
            </a:r>
            <a:r>
              <a:rPr b="1" lang="en-US" sz="1800" spc="-1" strike="noStrike">
                <a:solidFill>
                  <a:srgbClr val="ffffff"/>
                </a:solidFill>
                <a:latin typeface="Wingdings 2"/>
                <a:ea typeface="Wingdings 2"/>
              </a:rPr>
              <a:t>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Bran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657864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2007, Pearson Education, Inc., publishing as Longma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The Reaction to </a:t>
            </a:r>
            <a:r>
              <a:rPr b="0" i="1" lang="en-US" sz="3900" spc="-1" strike="noStrike">
                <a:solidFill>
                  <a:srgbClr val="ffffff"/>
                </a:solidFill>
                <a:latin typeface="Arial"/>
              </a:rPr>
              <a:t>Sputnik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676160" y="1980720"/>
            <a:ext cx="701028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957: Russians launched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Sputni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merican respon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National Aeronautics and Space Administration (NASA)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National Defense Education Act—upgrade the teaching of science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nse of failure, declined by 196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Farewell to Reform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676160" y="1980720"/>
            <a:ext cx="70102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irit of reform waned in postwar yea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ason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Growing affluence reduced sense of grievance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Americans eager to enjoy their new prosperity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Truman and the Fair Deal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676160" y="1980720"/>
            <a:ext cx="701028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air Deal attempted to expand New De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Medical Insurance for all American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Revived and strengthened Fair Employment Practices Commission (FEPC)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Federal aid to education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air Deal fail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Doctor’s lobby convinced people that insurance plan was “socialized medicine”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Southerners opposed FEPC and aid to education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uman’s achieve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Consolidated Roosevelt's reforms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78f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Set the agenda for future attempts to expand New Deal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Eisenhower's Modern Republicanism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676160" y="1980720"/>
            <a:ext cx="701028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isenhower left New Deal inta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Raised minimum wage and expanded Social Security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Created Department of Health, Education, and Welfare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954: Democrats regained Congr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956: Highway Act created interstate highway system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78f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Stimulated the economy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78f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Shaped metropolitan growth patterns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7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verall Eisenhower years were politically moderat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The Interstate Highway System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1676520" y="1905120"/>
            <a:ext cx="6324480" cy="41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The Election of 1956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rcRect l="0" t="23261" r="0" b="6955"/>
          <a:stretch/>
        </p:blipFill>
        <p:spPr>
          <a:xfrm>
            <a:off x="457200" y="2819520"/>
            <a:ext cx="830592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The Struggle Over Civil Rights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676160" y="1980720"/>
            <a:ext cx="701028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ld War prompted quest for American moral superior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gal discrimination against African Americans challenged U.S. self-im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frican-Americans expected more in postwar Americ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ivil Rights as a Political Issue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676160" y="1980720"/>
            <a:ext cx="701028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uman’s civil-rights legislation fail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948: African American vote gave Truman his margin of vict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ivil rights made part of the liberal Democratic agend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uman integrated the armed for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Desegregating the Schools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69339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954: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Brown v. Board of Edu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Segregated schools unconstitutional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segregate "with all deliberate speed"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ssive resistance in Deep Sou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957: Eisenhower’s ac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Federal troops sent to Little Rock, Arkansas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Commission on Civil Rights established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The Beginnings of Black Activism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676160" y="1980720"/>
            <a:ext cx="701028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ACP: Pressed for civil rights in cour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955: Martin Luther King, Jr. led Montgomery bus boycot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956: Southern Christian Leadership Conference directed anti-segreg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t-ins protested segregation l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960: Student Nonviolent Coordinating Committe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The Postwar Boom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676160" y="1980720"/>
            <a:ext cx="701028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945–1960: Rapid economic grow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960: Fear of another depression wa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Restoring National Confidence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676160" y="1980720"/>
            <a:ext cx="701028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merican people more optimistic in 1960 than in 195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ear of economic depression wan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ear of Cold War continu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owing recognition of incompatibility of racial injustice with American ideal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Postwar Prosperity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676160" y="1980720"/>
            <a:ext cx="701028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imuli to consumer goods indust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Baby boom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Population shift to suburbia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creased defense spend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crease in capital invest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mployment expan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Birthrate, 1940–1970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981080" y="1676520"/>
            <a:ext cx="4183200" cy="4419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Postwar Prosperity:</a:t>
            </a:r>
            <a:br>
              <a:rPr sz="3900"/>
            </a:b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Lingering Problems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676160" y="1980720"/>
            <a:ext cx="701028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gricultural overproduction, low pri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lder industrial areas declin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957–1958: Recession slowed decade’s economic growth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Life in the Suburbs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676160" y="1980720"/>
            <a:ext cx="701028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burbia inhabited by middle clas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aracteristics of subur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pendence on the automobile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Family togetherness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ditional feminism discourag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trance of more women into workplace stimulated new feminis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The Good Life?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676160" y="1980720"/>
            <a:ext cx="70102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umerism the dominant social theme of the 1950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Quality of life left Americans anxious and dissatisfi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Areas of Greatest Growth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676160" y="1980720"/>
            <a:ext cx="701028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urch membership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chool attend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levision watching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ritics of the Consumer Society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676160" y="1980720"/>
            <a:ext cx="701028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cial critics of suburban cul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John Keats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William Whyte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avid Riesman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. Wright Mills criticized corpor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ack Kerouac, “Beat” artists promote  countercultur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6T20:07:10Z</dcterms:created>
  <dc:creator>CMU</dc:creator>
  <dc:description/>
  <cp:keywords/>
  <dc:language>en-US</dc:language>
  <cp:lastModifiedBy>Teresa Ward User</cp:lastModifiedBy>
  <cp:lastPrinted>2012-04-19T01:07:11Z</cp:lastPrinted>
  <dcterms:modified xsi:type="dcterms:W3CDTF">2006-11-10T20:19:57Z</dcterms:modified>
  <cp:revision>9</cp:revision>
  <dc:subject/>
  <dc:title>CHAPTER 29 AFFLUENCE AND ANXIETY: FROM THE FAIR DEAL TO THE GREAT SOCIETY</dc:title>
</cp:coreProperties>
</file>